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3405-1325-4E68-ADDA-17A20952FD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B7E9-760E-49B4-9C19-EA98403D50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482-CCFD-4166-BB6F-D4A13D21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239-25AB-4F7B-8704-E6CDB6E0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98D-96EA-44CC-A68C-6CCAED5A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A56-1710-4744-A7EE-E81EA50F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92D-22B5-4930-AF38-75BF7CA3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A2C-C361-45AA-B365-762A251E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807-7728-4195-B9CC-561CE74F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113-D7AD-42C1-AECA-626CEBDC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3B7-1612-4DF1-B3D0-F0DC4604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2DA-B564-4E14-96BA-0EACD4E3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670-47C1-4865-8344-511225AD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BC7-A8A2-4532-BA93-0D5891F1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1DFC-E8C2-479B-B16F-E08C30B5EE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ESTI&#211;N%20%20DIRECTIVA.doc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1508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gestión del establecimiento educ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6200" y="62064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barca varias áreas, procesos y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26800" y="162864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stión direc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50920" y="20494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refiere a la manera como el establecimiento educativo es orien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área se centra en el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direccionamiento estratég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la cultura institucional, el clima y el gobierno esco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además de las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elaciones con el ento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De esta forma es posible que el rector o director y su equipo de gestión organicen, desarrollen y evalúen el funcionamiento general de la instit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53080" y="385452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stión académ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24000" y="429264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es la esencia del trabajo de un establecimiento educativo, pues señala cómo se enfocan sus acciones para lograr que los estudiantes aprendan y desarrollen las competencias necesarias para su desempeño personal, social y profes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área de la gestión se encarga de los procesos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diseño curricul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prácticas pedagógicas institucion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gestión de clases y seguimiento académ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1AE3-2DFB-426A-8681-53B39DC107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2458-CCC8-44F4-8D65-6C6DC3376A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548B-2ADF-4084-8818-EC72E461AA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B7B5-AE97-4CC8-8CA4-9CD819E14A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6CBE-9146-4DDE-BF0B-DD39B41137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A0A5-4F2E-41E8-A7EB-C9A9967E87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752560" y="189000"/>
            <a:ext cx="39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stión administrativa y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50920" y="836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área da soporte al trabajo institucional. Tiene a su cargo todos los procesos de apoyo a la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gestión académica, la administración de la planta física, los recursos y los servicios, el manejo del talento humano, y el apoyo financiero y co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964960" y="219852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stión de la 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24000" y="27511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o su nombre lo indica, se encarga de las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relaciones de la institución con la comun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así como de la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participación y la conviv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la atención educativa a grupos poblacionales con necesidades especiales bajo una perspectiva de inclusión, y la prevención de riesg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95280" y="39164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interior de estas áreas hay un conjunto de procesos y component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deben ser evaluados periódicamente, a fin de identificar los avances y las dificultades, y de esta forma establecer las acciones que permitan sup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obl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6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805E-C8C0-4A37-99C6-86EA052E42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2400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interior de estas áreas hay un conjunto de procesos y component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deben ser evaluados periódicamente, a fin de identificar los avances y las dificultades, y de esta forma establecer las acciones que permitan superar los probl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14288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ocesos  y los componentes son los referentes para emprender la ruta del mejor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A146-A37D-49AE-B92A-96F7AD3357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 Rectángulo"/>
          <p:cNvSpPr/>
          <p:nvPr/>
        </p:nvSpPr>
        <p:spPr>
          <a:xfrm>
            <a:off x="357120" y="14292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CESOS Y COMPONENTES DE LAS ÁREAS DE GESTIÓN 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 Rectángulo"/>
          <p:cNvSpPr/>
          <p:nvPr/>
        </p:nvSpPr>
        <p:spPr>
          <a:xfrm>
            <a:off x="801360" y="148752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estión Dir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2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53D0-6ADE-42F0-AB4A-E22846E8C1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3 Rectángulo"/>
          <p:cNvSpPr/>
          <p:nvPr/>
        </p:nvSpPr>
        <p:spPr>
          <a:xfrm>
            <a:off x="585360" y="2568600"/>
            <a:ext cx="44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estión Acadé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4 Rectángulo"/>
          <p:cNvSpPr/>
          <p:nvPr/>
        </p:nvSpPr>
        <p:spPr>
          <a:xfrm>
            <a:off x="571680" y="379080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estión Administrativa y financi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5 Rectángulo"/>
          <p:cNvSpPr/>
          <p:nvPr/>
        </p:nvSpPr>
        <p:spPr>
          <a:xfrm>
            <a:off x="618840" y="4997520"/>
            <a:ext cx="59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estión de  la  comuni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2F5D-37AD-4273-8240-EC455EF397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 CuadroTexto"/>
          <p:cNvSpPr/>
          <p:nvPr/>
        </p:nvSpPr>
        <p:spPr>
          <a:xfrm>
            <a:off x="1857240" y="1428840"/>
            <a:ext cx="51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CIONES PARA  EL   P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B2E4-377B-4124-9A34-62001B64D7A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9E0B-6FC2-48D7-9668-7D6CA66B53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95CB-EEC7-405C-827F-C030AAD4AC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Marcador de número de diapositiva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0CCD-D5BA-4F25-9F9B-C51AEDDDCD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9:55:02Z</dcterms:created>
  <dc:creator>MINISTERIO DE EDUCACION</dc:creator>
  <dc:description/>
  <dc:language>en-US</dc:language>
  <cp:lastModifiedBy>CIEN</cp:lastModifiedBy>
  <dcterms:modified xsi:type="dcterms:W3CDTF">2009-11-17T20:53:06Z</dcterms:modified>
  <cp:revision>23</cp:revision>
  <dc:subject/>
  <dc:title>Diapositiva 1</dc:title>
</cp:coreProperties>
</file>